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115-897D-4C3A-A244-6B9981E8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72E-7D9A-4D3A-8B96-D20509C5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B94-A8A9-4ABC-B4E5-178C581C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FBF-6F6F-4AEC-AD60-DAF74225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8507-389B-4AE8-BE1B-608AA1C0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9D1F-96A3-4CD8-8F0A-5F86EFEF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C969-C035-43B9-820B-51E19D6D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8567-DAC9-4731-9DB2-E1AAB39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F93-AE75-4DEF-82AF-4FC8902F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270C-FA52-4DA2-BF3F-6E7CC0E0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8E39-43BD-40FE-B96B-5F5D45CD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6C6-E8A9-4086-9165-03AC2CDE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7016-EEDA-4175-B678-BFCD941E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3D66-0ADA-4591-AE4C-9B35D09B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C2E3-602E-4DC5-BA40-01181C2A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DA58-082F-48B8-A3E2-974921C2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E277-FDDF-4C78-85E0-A40E2A8F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FE80-7EF8-4E15-ACE0-A8FD871D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D9D0-996C-45CC-84C8-5A758EA8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B0CC-3D03-4B78-ADDF-0F36604B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FD01-39A0-4B63-AD55-210E8950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B4CC-1D02-4912-8E59-A7919894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5D1-4FCB-4C39-BB27-BFFFD3A5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B56A-6599-4D39-AB85-F84A41F0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7561-5963-4E63-AB24-1E8F140E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9F18-D7A6-43EC-A19D-147720C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916B7-6843-4F60-B1E8-03277F4C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DB3E-AD34-4ADA-838B-7650844C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CD2C-575E-4167-9559-D8ECBA89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2D56-DF12-49CA-9C10-B949E84F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32D97-ECE1-43C1-91BA-DD0DFA13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15CBF-DEFC-4D24-B66E-10678A3C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17CA-0FA6-4058-8E3A-4B5995C0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13A-39AC-49E9-B63C-B3C46033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8E4B-F4AF-4769-A337-3C518DEA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9FE5-583D-4807-AEF7-05EAB45A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99AB-AEA3-46BA-8B60-A94B2D6A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8CA0-848C-48E7-9536-3409ED1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A468-4F8C-4AAB-8ED3-66F72C7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1513-48A3-4486-8A36-3ABC3123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87EDA-6EE0-4834-B1C9-9FA469A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3310-809C-491F-93D8-91F14368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3478-9F8C-4B66-8A82-E119CD42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C4E64-4EF6-4765-A55A-01F30EC8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33D-8E50-40D3-8A20-A885F7E0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E9A6B-2951-4F45-B9D2-100B2EB4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C6A20-DFCA-47C4-BA53-F0545998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EE3AD-999E-4B56-8DC4-64DDBA1D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011B3-2A8D-4206-989F-EE43520C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8FF26-97CA-455D-AD05-D44207AC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C409-E808-4C42-8847-976603F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B0F5-8635-4197-B093-26E8B38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84399-A19A-4885-AFED-60946E25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BE3AC-3FC4-48CE-A5D5-9171F5F3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B95BF-2AB9-4CE3-A46D-6C23E998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FAC-C6C7-49F3-A22D-B90C05C6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30661-9DF9-4486-A75F-E7D4E285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CEF-9720-45AE-BE4D-14CD7D4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8A0-447B-4980-9935-605CA945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179-9EFD-4880-A3E9-310F840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DE8D-28F5-4A7F-9F7B-1D5FCD90F15D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3ADC-8012-467C-B996-1A2C660C505D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1770-7E70-40DF-8F08-B3D1301E15F4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4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BE2A-371D-48BB-A577-4FAC0F9EADC6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E045-19E2-4759-B02B-910B2B9BE2F4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21_01HumanAndChimp-L.jpg"/>
          <p:cNvPicPr/>
          <p:nvPr/>
        </p:nvPicPr>
        <p:blipFill>
          <a:blip r:embed="rId1"/>
          <a:stretch/>
        </p:blipFill>
        <p:spPr>
          <a:xfrm>
            <a:off x="1600200" y="2133720"/>
            <a:ext cx="5791320" cy="4394160"/>
          </a:xfrm>
          <a:prstGeom prst="rect">
            <a:avLst/>
          </a:prstGeom>
          <a:ln w="0">
            <a:noFill/>
          </a:ln>
        </p:spPr>
      </p:pic>
      <p:pic>
        <p:nvPicPr>
          <p:cNvPr id="208" name="Title 1" descr=""/>
          <p:cNvPicPr/>
          <p:nvPr/>
        </p:nvPicPr>
        <p:blipFill>
          <a:blip r:embed="rId2"/>
          <a:stretch/>
        </p:blipFill>
        <p:spPr>
          <a:xfrm>
            <a:off x="493560" y="19080"/>
            <a:ext cx="8156880" cy="1485720"/>
          </a:xfrm>
          <a:prstGeom prst="rect">
            <a:avLst/>
          </a:prstGeom>
          <a:ln w="0">
            <a:noFill/>
          </a:ln>
        </p:spPr>
      </p:pic>
      <p:pic>
        <p:nvPicPr>
          <p:cNvPr id="209" name="Subtitle 2" descr=""/>
          <p:cNvPicPr/>
          <p:nvPr/>
        </p:nvPicPr>
        <p:blipFill>
          <a:blip r:embed="rId3"/>
          <a:stretch/>
        </p:blipFill>
        <p:spPr>
          <a:xfrm>
            <a:off x="493560" y="1352520"/>
            <a:ext cx="81568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Genome Evolution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Duplication </a:t>
            </a:r>
            <a:r>
              <a:rPr b="0" lang="en-US" sz="3200" spc="-1" strike="noStrike">
                <a:solidFill>
                  <a:srgbClr val="6d645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 genes with related functi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Genes diverge by accumulating mutati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Some become nonfunctional </a:t>
            </a:r>
            <a:r>
              <a:rPr b="0" i="1" lang="en-US" sz="3200" spc="-1" strike="noStrike">
                <a:solidFill>
                  <a:srgbClr val="6d6452"/>
                </a:solidFill>
                <a:latin typeface="Calibri"/>
              </a:rPr>
              <a:t>pseudogen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Eventually, new genes with new functions can occur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Multigene Familie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8600" y="1219320"/>
            <a:ext cx="814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Collections of 2 or more identical or very similar gen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Eg. hemoglobin: </a:t>
            </a:r>
            <a:r>
              <a:rPr b="0" lang="en-US" sz="3200" spc="-1" strike="noStrike">
                <a:solidFill>
                  <a:srgbClr val="6d645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-globin and </a:t>
            </a:r>
            <a:r>
              <a:rPr b="0" lang="en-US" sz="3200" spc="-1" strike="noStrike">
                <a:solidFill>
                  <a:srgbClr val="6d6452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-globin gene famili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34" name="Picture 4" descr="21_11bGeneFamilies-L.jpg"/>
          <p:cNvPicPr/>
          <p:nvPr/>
        </p:nvPicPr>
        <p:blipFill>
          <a:blip r:embed="rId1"/>
          <a:stretch/>
        </p:blipFill>
        <p:spPr>
          <a:xfrm>
            <a:off x="2819520" y="3352680"/>
            <a:ext cx="38988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2c24"/>
                </a:solidFill>
                <a:latin typeface="Book Antiqua"/>
              </a:rPr>
              <a:t>Illustrative Example: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Book Antiqua"/>
              </a:rPr>
              <a:t>Antifreeze Gene in Fish</a:t>
            </a:r>
            <a:endParaRPr b="0" lang="en-US" sz="32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8600" y="1294920"/>
            <a:ext cx="814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d6452"/>
                </a:solidFill>
                <a:uFillTx/>
                <a:latin typeface="Book Antiqua"/>
              </a:rPr>
              <a:t>Antifreeze proteins (AFP): 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produced by vertebrates,  plants, fungi, bacteria to aid survival in sub-zero environments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d6452"/>
                </a:solidFill>
                <a:uFillTx/>
                <a:latin typeface="Book Antiqua"/>
              </a:rPr>
              <a:t>Function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: bind to ice crystals and prevent growth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d6452"/>
                </a:solidFill>
                <a:uFillTx/>
                <a:latin typeface="Book Antiqua"/>
              </a:rPr>
              <a:t>Antarctic fish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: old protein gene transformed into a new gene with new structure/function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6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Gene mutates </a:t>
            </a:r>
            <a:r>
              <a:rPr b="0" lang="en-US" sz="2400" spc="-1" strike="noStrike">
                <a:solidFill>
                  <a:srgbClr val="6d64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 duplicated </a:t>
            </a:r>
            <a:r>
              <a:rPr b="0" lang="en-US" sz="2400" spc="-1" strike="noStrike">
                <a:solidFill>
                  <a:srgbClr val="6d64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6d6452"/>
                </a:solidFill>
                <a:latin typeface="Book Antiqua"/>
              </a:rPr>
              <a:t> divergent evolution </a:t>
            </a:r>
            <a:endParaRPr b="0" lang="en-US" sz="24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37" name="Picture 6" descr="http://images.sciencedaily.com/2011/01/110112122511.jpg"/>
          <p:cNvPicPr/>
          <p:nvPr/>
        </p:nvPicPr>
        <p:blipFill>
          <a:blip r:embed="rId1"/>
          <a:stretch/>
        </p:blipFill>
        <p:spPr>
          <a:xfrm>
            <a:off x="5943600" y="4800600"/>
            <a:ext cx="2857680" cy="1771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Antarctic icefish"/>
          <p:cNvPicPr/>
          <p:nvPr/>
        </p:nvPicPr>
        <p:blipFill>
          <a:blip r:embed="rId2"/>
          <a:stretch/>
        </p:blipFill>
        <p:spPr>
          <a:xfrm>
            <a:off x="3200400" y="4800600"/>
            <a:ext cx="2592360" cy="1724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Christina Cheng"/>
          <p:cNvPicPr/>
          <p:nvPr/>
        </p:nvPicPr>
        <p:blipFill>
          <a:blip r:embed="rId3"/>
          <a:stretch/>
        </p:blipFill>
        <p:spPr>
          <a:xfrm>
            <a:off x="762120" y="4876920"/>
            <a:ext cx="22096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93600"/>
            <a:ext cx="876312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2c24"/>
                </a:solidFill>
                <a:latin typeface="Calibri"/>
              </a:rPr>
              <a:t>Transpositions </a:t>
            </a:r>
            <a:r>
              <a:rPr b="0" lang="en-US" sz="3200" spc="-1" strike="noStrike">
                <a:solidFill>
                  <a:srgbClr val="302c24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02c24"/>
                </a:solidFill>
                <a:latin typeface="Calibri"/>
              </a:rPr>
              <a:t> chromosomal rearrangements</a:t>
            </a:r>
            <a:endParaRPr b="0" lang="en-US" sz="32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41" name="Picture 4" descr="21_12aRelatedMammalChrom-L.jpg"/>
          <p:cNvPicPr/>
          <p:nvPr/>
        </p:nvPicPr>
        <p:blipFill>
          <a:blip r:embed="rId1"/>
          <a:stretch/>
        </p:blipFill>
        <p:spPr>
          <a:xfrm>
            <a:off x="228600" y="1523880"/>
            <a:ext cx="3581280" cy="448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2" name="Picture 5" descr="21_12bRelatedMammalChrom-L.jpg"/>
          <p:cNvPicPr/>
          <p:nvPr/>
        </p:nvPicPr>
        <p:blipFill>
          <a:blip r:embed="rId2"/>
          <a:stretch/>
        </p:blipFill>
        <p:spPr>
          <a:xfrm>
            <a:off x="4038480" y="2362320"/>
            <a:ext cx="4900680" cy="3193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2c24"/>
                </a:solidFill>
                <a:latin typeface="Book Antiqua"/>
              </a:rPr>
              <a:t>Transposable elements contribute to evolution</a:t>
            </a:r>
            <a:endParaRPr b="0" lang="en-US" sz="4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Promote recombination, disrupt genes or control elements, &amp; carry genes to new locati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May be harmful or lethal, but can also have small beneficial effect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Provides raw material for natural selection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2c24"/>
                </a:solidFill>
                <a:latin typeface="Book Antiqua"/>
              </a:rPr>
              <a:t>Evolutionary Development</a:t>
            </a:r>
            <a:br>
              <a:rPr sz="4000"/>
            </a:br>
            <a:r>
              <a:rPr b="0" lang="en-US" sz="4000" spc="-1" strike="noStrike">
                <a:solidFill>
                  <a:srgbClr val="302c24"/>
                </a:solidFill>
                <a:latin typeface="Book Antiqua"/>
              </a:rPr>
              <a:t>(Evo-devo)</a:t>
            </a:r>
            <a:endParaRPr b="0" lang="en-US" sz="4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5235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Compares developmental processes to understand how changes can lead to evolution of organisms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47" name="Picture 3" descr="21_16ThreeDomainEvo-L.jpg"/>
          <p:cNvPicPr/>
          <p:nvPr/>
        </p:nvPicPr>
        <p:blipFill>
          <a:blip r:embed="rId1"/>
          <a:stretch/>
        </p:blipFill>
        <p:spPr>
          <a:xfrm>
            <a:off x="3657600" y="2590920"/>
            <a:ext cx="41292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6840" y="665280"/>
            <a:ext cx="81471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d6452"/>
                </a:solidFill>
                <a:uFillTx/>
                <a:latin typeface="Book Antiqua"/>
              </a:rPr>
              <a:t>Homeotic genes</a:t>
            </a:r>
            <a:r>
              <a:rPr b="0" lang="en-US" sz="3200" spc="-1" strike="noStrike">
                <a:solidFill>
                  <a:srgbClr val="6d6452"/>
                </a:solidFill>
                <a:latin typeface="Book Antiqua"/>
              </a:rPr>
              <a:t>: master regulatory gen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lvl="1" marL="813600" indent="-406800">
              <a:spcBef>
                <a:spcPts val="601"/>
              </a:spcBef>
              <a:buClr>
                <a:srgbClr val="a49a85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d6452"/>
                </a:solidFill>
                <a:latin typeface="Book Antiqua"/>
              </a:rPr>
              <a:t>Control placement and spatial organization of body parts</a:t>
            </a:r>
            <a:endParaRPr b="0" lang="en-US" sz="3000" spc="-1" strike="noStrike">
              <a:solidFill>
                <a:srgbClr val="6d6452"/>
              </a:solidFill>
              <a:latin typeface="Book Antiqu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d6452"/>
                </a:solidFill>
                <a:uFillTx/>
                <a:latin typeface="Book Antiqua"/>
              </a:rPr>
              <a:t>Homeobox</a:t>
            </a:r>
            <a:r>
              <a:rPr b="0" lang="en-US" sz="3200" spc="-1" strike="noStrike">
                <a:solidFill>
                  <a:srgbClr val="6d6452"/>
                </a:solidFill>
                <a:latin typeface="Book Antiqua"/>
              </a:rPr>
              <a:t>: widely conserved 180-nucleotide sequence within homeotic (Hox) gene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lvl="1" marL="813600" indent="-406800">
              <a:spcBef>
                <a:spcPts val="601"/>
              </a:spcBef>
              <a:buClr>
                <a:srgbClr val="a49a85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d6452"/>
                </a:solidFill>
                <a:latin typeface="Book Antiqua"/>
              </a:rPr>
              <a:t>Found in many groups (fungi, animals, plants)</a:t>
            </a:r>
            <a:endParaRPr b="0" lang="en-US" sz="3000" spc="-1" strike="noStrike">
              <a:solidFill>
                <a:srgbClr val="6d6452"/>
              </a:solidFill>
              <a:latin typeface="Book Antiqua"/>
            </a:endParaRPr>
          </a:p>
          <a:p>
            <a:pPr lvl="1" marL="813600" indent="-406800">
              <a:spcBef>
                <a:spcPts val="601"/>
              </a:spcBef>
              <a:buClr>
                <a:srgbClr val="a49a85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Book Antiqua"/>
              </a:rPr>
              <a:t>Hints at relatedness between all life form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29000" cy="597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2c24"/>
                </a:solidFill>
                <a:latin typeface="Calibri"/>
              </a:rPr>
              <a:t>Conservation of homeotic genes</a:t>
            </a:r>
            <a:endParaRPr b="0" lang="en-US" sz="36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50" name="Content Placeholder 3" descr="21_18_HomeoticGenes-L.jpg"/>
          <p:cNvPicPr/>
          <p:nvPr/>
        </p:nvPicPr>
        <p:blipFill>
          <a:blip r:embed="rId1"/>
          <a:stretch/>
        </p:blipFill>
        <p:spPr>
          <a:xfrm>
            <a:off x="4038480" y="457200"/>
            <a:ext cx="44197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What you need to know: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e major goals of the Human Genome Projec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How prokaryotic genomes compare to eukaryotic genome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e activity and role of transposable elements and retrotransposon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How evo-devo relates to our understanding of the evolution of genome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e role of homeotic genes and homeoboxes.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Human Genome Projec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d6452"/>
                </a:solidFill>
                <a:uFillTx/>
                <a:latin typeface="Calibri"/>
              </a:rPr>
              <a:t>Purpose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: to sequence the entire human genom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Completed in 2003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&gt;1,200 genomes sequenced now (1000 bacteria, 80 archaea, &amp; 124 eukaryotic species)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Human Genome Projec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pic>
        <p:nvPicPr>
          <p:cNvPr id="215" name="Picture 2" descr="21_02GenomeSequencing_4-L.jpg"/>
          <p:cNvPicPr/>
          <p:nvPr/>
        </p:nvPicPr>
        <p:blipFill>
          <a:blip r:embed="rId1"/>
          <a:stretch/>
        </p:blipFill>
        <p:spPr>
          <a:xfrm>
            <a:off x="1752480" y="1295280"/>
            <a:ext cx="55627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Calibri"/>
            </a:endParaRPr>
          </a:p>
        </p:txBody>
      </p:sp>
      <p:pic>
        <p:nvPicPr>
          <p:cNvPr id="217" name="Picture 4" descr="21_T01GenomeSizes-L.jpg"/>
          <p:cNvPicPr/>
          <p:nvPr/>
        </p:nvPicPr>
        <p:blipFill>
          <a:blip r:embed="rId1"/>
          <a:stretch/>
        </p:blipFill>
        <p:spPr>
          <a:xfrm>
            <a:off x="2508120" y="136440"/>
            <a:ext cx="41277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Human DNA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3 billion base pairs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~20,000 genes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Onl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1.5%</a:t>
            </a: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 codes for proteins (or RNA)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Book Antiqua"/>
              </a:rPr>
              <a:t>Repetitive DNA</a:t>
            </a:r>
            <a:r>
              <a:rPr b="0" lang="en-US" sz="2800" spc="-1" strike="noStrike">
                <a:solidFill>
                  <a:srgbClr val="6d6452"/>
                </a:solidFill>
                <a:latin typeface="Book Antiqua"/>
              </a:rPr>
              <a:t>: sequences present in multiple copies</a:t>
            </a:r>
            <a:endParaRPr b="0" lang="en-US" sz="28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20" name="Picture 3" descr="21_07HumanDNATypes-L.jpg"/>
          <p:cNvPicPr/>
          <p:nvPr/>
        </p:nvPicPr>
        <p:blipFill>
          <a:blip r:embed="rId1"/>
          <a:stretch/>
        </p:blipFill>
        <p:spPr>
          <a:xfrm>
            <a:off x="4343400" y="1490760"/>
            <a:ext cx="46339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Transposable Element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0520" y="1295280"/>
            <a:ext cx="814716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Make up 75% of repetitive DNA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25160" indent="-42516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Can be moved from one location to another in genom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25160" indent="-42516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Discovered by Barbara McClintock – corn breeding experiment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25160" indent="-42516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2 Types: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lvl="1" marL="850320" indent="-425160">
              <a:lnSpc>
                <a:spcPct val="100000"/>
              </a:lnSpc>
              <a:spcBef>
                <a:spcPts val="6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pos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lvl="1" marL="850320" indent="-425160">
              <a:lnSpc>
                <a:spcPct val="100000"/>
              </a:lnSpc>
              <a:spcBef>
                <a:spcPts val="6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trotransposon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23" name="Picture 3" descr="21_08_McClintockCorn-L.jpg"/>
          <p:cNvPicPr/>
          <p:nvPr/>
        </p:nvPicPr>
        <p:blipFill>
          <a:blip r:embed="rId1"/>
          <a:stretch/>
        </p:blipFill>
        <p:spPr>
          <a:xfrm>
            <a:off x="5181480" y="3962520"/>
            <a:ext cx="35514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8600" y="93600"/>
            <a:ext cx="8146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Transpos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8600" y="1066680"/>
            <a:ext cx="8146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Moves within genome via DNA intermediat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cut &amp; paste” or “copy &amp; paste” mechanisms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Requires enzym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ransposas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26" name="Picture 3" descr="21_09TransposonMovement-L.jpg"/>
          <p:cNvPicPr/>
          <p:nvPr/>
        </p:nvPicPr>
        <p:blipFill>
          <a:blip r:embed="rId1"/>
          <a:stretch/>
        </p:blipFill>
        <p:spPr>
          <a:xfrm>
            <a:off x="1295280" y="3429000"/>
            <a:ext cx="6870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8600" y="93600"/>
            <a:ext cx="8146800" cy="8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Calibri"/>
              </a:rPr>
              <a:t>Retrotranspos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8600" y="1066680"/>
            <a:ext cx="8146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Move by means of RNA intermediat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Leaves copy at original sit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452"/>
                </a:solidFill>
                <a:latin typeface="Calibri"/>
              </a:rPr>
              <a:t>Involves enzym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reverse transcriptase</a:t>
            </a:r>
            <a:endParaRPr b="0" lang="en-US" sz="3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229" name="Picture 3" descr="21_10RetrotransposonMove-L.jpg"/>
          <p:cNvPicPr/>
          <p:nvPr/>
        </p:nvPicPr>
        <p:blipFill>
          <a:blip r:embed="rId1"/>
          <a:stretch/>
        </p:blipFill>
        <p:spPr>
          <a:xfrm>
            <a:off x="1828800" y="3273480"/>
            <a:ext cx="54100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6:36:49Z</dcterms:created>
  <dc:creator>Chris Nancy Chou</dc:creator>
  <dc:description/>
  <dc:language>en-US</dc:language>
  <cp:lastModifiedBy>Chris Nancy Chou</cp:lastModifiedBy>
  <dcterms:modified xsi:type="dcterms:W3CDTF">2013-01-28T08:01:16Z</dcterms:modified>
  <cp:revision>9</cp:revision>
  <dc:subject/>
  <dc:title>Chapter 21</dc:title>
</cp:coreProperties>
</file>